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9F3-3DB3-458B-AFB4-3D39DE14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C29-B9B3-422E-9AF3-F8DB5D7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B07-2228-4D7B-8605-900742D6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9AB-BD9C-4D48-BC7B-B3C6BF71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5B0E-0AA0-4B89-8CC9-87FE66DA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CC3-9EE4-4BBE-B7FA-DC80465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A5DA-D7E8-40FD-9FBA-053FCA6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CD29-272B-4776-9716-869947DF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D0F5-95F2-4293-8628-8176AB32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0FB-1E11-4493-8E54-3D15ED00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FA4B-CA1B-4969-812A-6D1470B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907-3878-448C-B49F-6C7A2AA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A1AE-BC10-466E-84D6-1652F008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05F0-C9D4-4718-94F7-03D930BF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E70-6566-48CF-8BED-26146CE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62B3-50FB-4CA4-90AE-5970D66A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2496-428D-4C3C-98E6-BEB187C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31C0-7326-4B70-AFD0-1C98D40B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81D2-19F3-48B6-A202-D68AE38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185C-CE5F-45F2-81B2-687165D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356F-E7EF-4E08-9449-B2010615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0C1D-1B95-4E79-B060-661CA09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32A-2BC0-4E62-8B89-49D65E9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EA7F-67B8-4E00-A5F5-00DC2E6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028D-C6DC-4D40-807C-66AC26A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0BF8-834F-497C-B957-EFC2124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5F18-5EB3-47FF-B032-1043DF4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64FC-BE51-467B-90E1-B4A27249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B383-1936-4ABD-823C-5E02FDCF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9609-3C45-4B96-87C2-F142AE8D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BDEF-2269-4050-9FB3-883AA346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741D-90C5-4702-82EF-D8425E89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3216-D32C-4F2C-909C-13F8D4C7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DCE-3327-4F42-80AA-D0D7971D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3EFB-D602-4B8A-9C50-4A9A2316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3E3E-474E-470B-9DD1-8D83988D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9838-3044-4275-8497-477A8341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11CB-903E-480D-82A3-84E67753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B7D8-0C1C-46EF-BF28-2D270CD0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F2D59-1B77-459A-B358-02F5860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58E8-99D0-43DF-B16B-7BACE0F3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E777-47D4-4723-A09F-D15603A5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4BC4-33FA-43D7-B42C-A8976569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E385-B212-4958-A52E-4103FCBA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EE5-8627-409B-BB6A-81FF4E9A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5B35-F71F-4D79-944A-82CB36FE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6C263-107C-4978-9F04-58035D24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FD336-D303-48BF-81EA-260F8302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9B01-30B2-428A-8776-B0C52631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010A-3113-41C8-BCFF-EA8CE62A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158C-3F32-447D-84E5-492BB9DF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840B-8AFD-4C24-8BAD-021E5A6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A042-10FB-436D-8C12-D58B5CA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3E3C-CC7D-42CE-A415-F4E8D831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AC8EC-1A48-4290-A7B4-975E5F04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195-EF01-47C8-A1CA-667654D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4D32-3BD7-4BF3-A93F-065A4780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E740-3CA1-4F6D-81D2-F0469108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C7BA-4EF3-4BA6-92DD-1B7F541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6870B-2316-4F76-81C2-20B7CA6C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AC24-EF10-45C2-A7C7-B137C9E2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A035-DA34-48F3-A513-D60765FB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332A-D553-480A-BFFE-450FFAF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127E-4EE3-476F-A9E0-4D8AE6A5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14585-7837-4B62-9906-F98092DB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6FAA-359B-4535-8934-1A1499D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479-26B1-478F-B9D0-A3581EB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D5CD-F4F2-40CD-AE33-AA170EE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FF1E2-7B3B-4447-97C3-AC67D154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8414-45BE-4C66-8BF0-A9E652E2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08AC8-0642-4D21-96FE-E34394D4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F129-45EE-4D73-9A45-CC7955B0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7F20-6692-4536-96ED-1FC462AA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9C2C-A1F4-48FC-8D6E-ECB3058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A540B-E85B-444B-8DC1-DB541741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0B4D-C893-4744-95E3-CAC16BBA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A61C-081B-4216-A7E5-D8D3BE68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F14-938D-42E8-9779-856C8D2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7005-049E-4ACB-9F8F-883108F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A984-EA7D-49EC-8E18-5758AE7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D43D-7737-4F20-B005-8F73144A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4221-BA62-494A-B8FC-29EACC9B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289D-439B-4B1F-BE3B-806BE90E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A2C92-6A7E-44C4-A37B-A1460654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F330-A49A-464E-A222-2972E068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9F66E-994D-4899-A61E-AC9FBFC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05E4D-6C2F-4DA1-93D6-30D106DC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B516-C3B5-44DE-A7D7-58927CD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E6B-1EB1-4BE2-8361-8BB0F40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507F-F140-40D6-8882-D4EA8F4D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2FA8-266F-4E2B-9B5A-32FD2E2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2C155-4001-42D3-9A74-428EA94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BD9BD-CF80-4482-8B41-F0A4405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9E34D-0BFC-4BD4-BFFD-4F124375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B78A-434F-4FC8-9EDC-765F55EA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64A76-D2F9-415B-94A8-C553865C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D1F5-22D6-4303-9404-6EF1440610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D06-05D2-40FB-8A9B-A934A5703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FE6-B953-4D15-811C-3989129D1A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DAB-3C7E-406D-888C-3736B2A080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0C9-0ED8-45B8-8979-CF22318AB8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CB12-DB94-40FA-AC4D-7AEA098954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86B-8C3E-45E5-932B-5DFB542BB5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1F6C-8B8E-4EEC-852E-85A37245AB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urpose, Syntax, and Techniq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att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ablish relev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prior knowl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a good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e inqui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ood story (narr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ystery (intrig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ame (challenge/puzz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different (novelt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flashy (vividnes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bout them (relevan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nce to be successful (self-actualiz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was just thinking about…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at leads to the question…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“thinking about” to other verb phrases (e.g., “listening to”, “playing with”, “wondering about”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estion needs to be a science question…one that can be answered through inquiry activity, investigation, and/or experimenta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ity – manipulating materials to learn about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ion – an activity that is focused on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eriment – an investigation that tests relationships, such as between vari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 of these can provide evidence for answering science ques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9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evant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s science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es on inductive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serv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siz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ing (science)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investigations and/or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broken 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nd is composed of broken bits of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 (Dedu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nd is made of broken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find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35:45Z</dcterms:created>
  <dc:creator>Information  Technology</dc:creator>
  <dc:description/>
  <dc:language>en-US</dc:language>
  <cp:lastModifiedBy>Information  Technology</cp:lastModifiedBy>
  <dcterms:modified xsi:type="dcterms:W3CDTF">2010-09-07T17:29:46Z</dcterms:modified>
  <cp:revision>10</cp:revision>
  <dc:subject/>
  <dc:title>Engagement</dc:title>
</cp:coreProperties>
</file>